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3.gif" ContentType="image/gif"/>
  <Override PartName="/ppt/media/image16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Plasma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192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9080" y="4416120"/>
            <a:ext cx="5043600" cy="4182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. Podgorski, Biol. 101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513B1B88-9E12-45A4-BEFC-E7D514759A68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Plasma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C057E997-658E-4D85-A0F8-4DB0A0F18C09}" type="datetime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. Podgorski, Biol. 101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FCB49D2E-3C11-473C-93D6-29706C62DC23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192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9080" y="4416120"/>
            <a:ext cx="5043600" cy="4182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to modify this powerpoint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simple diffusion vs. facilitated diffu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cell membrane stuf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selectively permeable membr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define equilibrium and concentration gradien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define isotonic, hypertonic, hypoton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active transpo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se jenn nemec’s chart to go along with 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Plasma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2DB2461A-F76A-49E5-A7EB-8517CB4A7512}" type="datetime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. Podgorski, Biol. 101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FD75C278-B435-43B0-AC07-571F0FA3F9E6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192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9080" y="4416120"/>
            <a:ext cx="50436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Plasma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DCA34C3E-3DAE-49FF-99B8-B58645242875}" type="datetime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. Podgorski, Biol. 101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FA121312-4C62-4867-844A-C3E4A20A56BE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192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9080" y="4416120"/>
            <a:ext cx="50436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Plasma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7F729A42-F5E8-4E94-9A77-69E905B1E790}" type="datetime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. Podgorski, Biol. 101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375A8233-9588-4B49-8EBD-46FB7FA27D3F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192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9080" y="4416120"/>
            <a:ext cx="50436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Plasma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4ED032D4-4A91-45FB-AA5C-57778BE43C6A}" type="datetime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. Podgorski, Biol. 101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AAAF2FEA-5C0E-482E-A9B6-6302B43E1930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192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9080" y="4416120"/>
            <a:ext cx="50436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Plasma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3A9ABE4B-AAF7-448F-9E12-BDA4005427DF}" type="datetime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. Podgorski, Biol. 101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22658580-16B3-4148-99CE-9043482E03D2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192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9080" y="4416120"/>
            <a:ext cx="50436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Plasma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AB99C3EB-EEFA-4212-984F-E8856CA3496C}" type="datetime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. Podgorski, Biol. 101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01492F3E-5828-4D2E-9D6F-ACE05471BE30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192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9080" y="4416120"/>
            <a:ext cx="50436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Plasma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1F9A907E-A837-4910-9CF3-949CBE12836C}" type="datetime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. Podgorski, Biol. 101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ABC39E1F-4F5F-40C0-A086-937F15BD7C9B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192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9080" y="4416120"/>
            <a:ext cx="50436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Plasma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CCA0518C-6A1E-4755-9FFE-CA899115585E}" type="datetime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. Podgorski, Biol. 101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A3D4560A-CE7E-4B78-B5F6-434E55038FAA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192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9080" y="4416120"/>
            <a:ext cx="50436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74A9-DA3C-480A-9333-5749A28F4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EC76-636B-40FB-B2E7-70A97D77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E764-F119-4278-98BB-25E536B14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E2A1-9977-4649-B8BE-D3E5D088A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592E-D285-4F9A-BD44-9156B8241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0F04-05F3-4F7F-BC7F-1BAE676A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2114-2A4C-4441-9E52-02680E03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32DE-0B96-493B-9D56-1EF3C27E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9212-E239-490A-BD75-31220AE3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6906-2D4B-492C-8B0C-DAAFC882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0AD0-1392-4C76-B71E-D6D4145B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4BF7-4AFD-4FAF-8605-CD97D0A3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pyright cmassengale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9EEB-FD9B-47DA-85A8-40CF8008A7D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hyperlink" Target="file:///../../../Downloaded%20Videos/Fluid%20mosiac%20model.avi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6146-D1BB-4537-9191-062C8AD754A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ell Transport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pyright cmassengale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nction of the Cell Membran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tes what enters and leaves the cel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protection and suppo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Transition…AHHHH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ay seem completely rando…but I promise the dots will connect later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nt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solution,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entr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ss of solu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a give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lume of solu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fference in concentration over a distance is called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entration gradi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400A-924B-43CC-995A-500EAD53435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mple Diffu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62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Arial"/>
              </a:rPr>
              <a:t>Descript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es move from area o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IGH to L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centratio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eans they are going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OW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CENTRATION GRADI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ASS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cess (no energy required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" name="Picture 1028" descr="diffusion-animated[1]"/>
          <p:cNvPicPr/>
          <p:nvPr/>
        </p:nvPicPr>
        <p:blipFill>
          <a:blip r:embed="rId1"/>
          <a:stretch/>
        </p:blipFill>
        <p:spPr>
          <a:xfrm>
            <a:off x="4876920" y="2362320"/>
            <a:ext cx="381924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500A-2EB6-4658-87A6-4FA1A70358F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5" name="Picture 4" descr="FG05_04"/>
          <p:cNvPicPr/>
          <p:nvPr/>
        </p:nvPicPr>
        <p:blipFill>
          <a:blip r:embed="rId1"/>
          <a:srcRect l="4618" t="0" r="0" b="7397"/>
          <a:stretch/>
        </p:blipFill>
        <p:spPr>
          <a:xfrm>
            <a:off x="380880" y="457200"/>
            <a:ext cx="8458200" cy="51814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1610280" y="5761080"/>
            <a:ext cx="57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.\..\..\Downloaded Videos\Diffusion.av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imple Diffusion of a Solute Across a Membra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pyright cmassengale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3DB9-F408-40EC-B62D-5E028B83DB7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546732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an all solutes cross the membrane by simple diffus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!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membrane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selectively permeable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s means only certain solutes (typically small ones) can pass across by simple diffu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solution? – Channel Proteins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pyright cmassengale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36F5-4396-48D1-8C82-B42BED551A6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cilitated Diffu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62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Description:</a:t>
            </a:r>
            <a:r>
              <a:rPr b="0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ffusion of certain molecules through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electively permeable membra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made possible b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protein channe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PASSIV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DOW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adi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7" name="Picture 5" descr="http://bio1151b.nicerweb.com/Locked/media/ch07/07_15FacilitatedDiffusionA.jpg"/>
          <p:cNvPicPr/>
          <p:nvPr/>
        </p:nvPicPr>
        <p:blipFill>
          <a:blip r:embed="rId1"/>
          <a:stretch/>
        </p:blipFill>
        <p:spPr>
          <a:xfrm>
            <a:off x="3200400" y="4114800"/>
            <a:ext cx="5495760" cy="23781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441360" y="4160880"/>
            <a:ext cx="237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.\..\..\Downloaded Videos\facilitated diffusion.av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6E4B-14C8-4636-880B-66A0D4D5A1D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smosi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262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Description:</a:t>
            </a:r>
            <a:r>
              <a:rPr b="0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ffusion o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WA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cross a selectively permeable membra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PASSIV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DOWN GRADI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that is, WATER moves down its gradient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2" name="Picture 3" descr="osmosis"/>
          <p:cNvPicPr/>
          <p:nvPr/>
        </p:nvPicPr>
        <p:blipFill>
          <a:blip r:embed="rId1"/>
          <a:stretch/>
        </p:blipFill>
        <p:spPr>
          <a:xfrm>
            <a:off x="4419720" y="3581280"/>
            <a:ext cx="4038480" cy="3054600"/>
          </a:xfrm>
          <a:prstGeom prst="rect">
            <a:avLst/>
          </a:prstGeom>
          <a:ln w="0">
            <a:noFill/>
          </a:ln>
        </p:spPr>
      </p:pic>
      <p:sp>
        <p:nvSpPr>
          <p:cNvPr id="113" name="Line 5"/>
          <p:cNvSpPr/>
          <p:nvPr/>
        </p:nvSpPr>
        <p:spPr>
          <a:xfrm>
            <a:off x="5181480" y="5105520"/>
            <a:ext cx="2514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593640" y="4008600"/>
            <a:ext cx="329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.\..\..\Downloaded Videos\Osmosis.av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ll in Isotonic S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762120" y="1447920"/>
            <a:ext cx="5790960" cy="40384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Oval 6"/>
          <p:cNvSpPr/>
          <p:nvPr/>
        </p:nvSpPr>
        <p:spPr>
          <a:xfrm>
            <a:off x="2590920" y="2590920"/>
            <a:ext cx="3047760" cy="2514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809880" y="41148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3429000" y="2971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EL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1066680" y="1828800"/>
            <a:ext cx="2133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0% solut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90% wat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2819520" y="380988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0% solut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90% wat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914400" y="55627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direction of water movement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1066680" y="617220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1143000" y="6095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ell is a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QUILIBRI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1600200" y="60199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Text Box 21"/>
          <p:cNvSpPr/>
          <p:nvPr/>
        </p:nvSpPr>
        <p:spPr>
          <a:xfrm>
            <a:off x="3505320" y="17524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TextBox 13"/>
          <p:cNvSpPr/>
          <p:nvPr/>
        </p:nvSpPr>
        <p:spPr>
          <a:xfrm>
            <a:off x="6553080" y="2362320"/>
            <a:ext cx="2438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lution outside the cell has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AME solute (and water) concentr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the cell itself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Your Understan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t the end of today’s lesson, you should be able 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swer the following question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parts of the cell membrane and what do they do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“Fluid Mosaic Model?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processes of diffusion, osmosis, facilitated diffusion, and active transpor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8000-3A95-4407-A715-70F56B561B8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ll in Hypotonic S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28600" y="1447920"/>
            <a:ext cx="5791320" cy="40384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Oval 4"/>
          <p:cNvSpPr/>
          <p:nvPr/>
        </p:nvSpPr>
        <p:spPr>
          <a:xfrm>
            <a:off x="1676520" y="2590920"/>
            <a:ext cx="3047760" cy="2514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3809880" y="41148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2438280" y="2971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EL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57200" y="1676520"/>
            <a:ext cx="213372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0% solut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90% wat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2209680" y="365760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0% solut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80% wat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1066680" y="58672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direction of water movement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1066680" y="617220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3352680" y="60199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Text Box 21"/>
          <p:cNvSpPr/>
          <p:nvPr/>
        </p:nvSpPr>
        <p:spPr>
          <a:xfrm>
            <a:off x="2971800" y="17524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TextBox 14"/>
          <p:cNvSpPr/>
          <p:nvPr/>
        </p:nvSpPr>
        <p:spPr>
          <a:xfrm>
            <a:off x="6095880" y="1828800"/>
            <a:ext cx="2438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lution outside the cell has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LOWER solute (HIGHER water) concentr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n the cell itself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66CA-3112-4A85-8C9C-E40865C7FA6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ll in Hypertonic S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228600" y="1523880"/>
            <a:ext cx="5791320" cy="403884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Oval 4"/>
          <p:cNvSpPr/>
          <p:nvPr/>
        </p:nvSpPr>
        <p:spPr>
          <a:xfrm>
            <a:off x="1828800" y="2743200"/>
            <a:ext cx="3048120" cy="2514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3809880" y="41148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2666880" y="31240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EL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380880" y="1828800"/>
            <a:ext cx="2133720" cy="14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5% solut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85% wat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2438280" y="380988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% solut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95% wat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914400" y="57913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direction of water movement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1066680" y="617220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3352680" y="60199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2895480" y="18288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TextBox 13"/>
          <p:cNvSpPr/>
          <p:nvPr/>
        </p:nvSpPr>
        <p:spPr>
          <a:xfrm>
            <a:off x="6248520" y="1905120"/>
            <a:ext cx="2438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lution outside the cell has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HIGHER solute (LOWER water) concentr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n the cell itself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10" descr="15_009[1]"/>
          <p:cNvPicPr/>
          <p:nvPr/>
        </p:nvPicPr>
        <p:blipFill>
          <a:blip r:embed="rId1"/>
          <a:srcRect l="0" t="42671" r="0" b="21332"/>
          <a:stretch/>
        </p:blipFill>
        <p:spPr>
          <a:xfrm>
            <a:off x="609480" y="609480"/>
            <a:ext cx="8001000" cy="20574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1"/>
          <p:cNvSpPr/>
          <p:nvPr/>
        </p:nvSpPr>
        <p:spPr>
          <a:xfrm>
            <a:off x="1066680" y="28954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tonic Solu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990720" y="4038480"/>
            <a:ext cx="29718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T MOVEMENT OF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(equal amounts entering &amp; leaving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4191120" y="2971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Text Box 14"/>
          <p:cNvSpPr/>
          <p:nvPr/>
        </p:nvSpPr>
        <p:spPr>
          <a:xfrm>
            <a:off x="3886200" y="29718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onic Solu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Text Box 15"/>
          <p:cNvSpPr/>
          <p:nvPr/>
        </p:nvSpPr>
        <p:spPr>
          <a:xfrm>
            <a:off x="41911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Burstin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Text Box 16"/>
          <p:cNvSpPr/>
          <p:nvPr/>
        </p:nvSpPr>
        <p:spPr>
          <a:xfrm>
            <a:off x="6629400" y="28195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ertonic Solu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Text Box 17"/>
          <p:cNvSpPr/>
          <p:nvPr/>
        </p:nvSpPr>
        <p:spPr>
          <a:xfrm>
            <a:off x="6477120" y="4572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Shrinkin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Line 19"/>
          <p:cNvSpPr/>
          <p:nvPr/>
        </p:nvSpPr>
        <p:spPr>
          <a:xfrm>
            <a:off x="2438280" y="34290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Line 20"/>
          <p:cNvSpPr/>
          <p:nvPr/>
        </p:nvSpPr>
        <p:spPr>
          <a:xfrm>
            <a:off x="5029200" y="38862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Line 21"/>
          <p:cNvSpPr/>
          <p:nvPr/>
        </p:nvSpPr>
        <p:spPr>
          <a:xfrm>
            <a:off x="7467480" y="373392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6477120" y="5105520"/>
            <a:ext cx="2225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..\..\..\Downloaded Videos\Onion Cells Plasmolysis.avi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4098960" y="5151600"/>
            <a:ext cx="1616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..\..\..\Downloaded Videos\Red Blood Cells in Hypotonic Solution.avi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Text Box 19"/>
          <p:cNvSpPr/>
          <p:nvPr/>
        </p:nvSpPr>
        <p:spPr>
          <a:xfrm>
            <a:off x="6477120" y="5943600"/>
            <a:ext cx="2377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..\..\..\Downloaded Videos\Red Blood Cells in a Hypertonic Solution.avi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B710-070B-4734-ADE5-C73B3E7CFB2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smosis in Red Blood Cel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3" descr="image004"/>
          <p:cNvPicPr/>
          <p:nvPr/>
        </p:nvPicPr>
        <p:blipFill>
          <a:blip r:embed="rId1"/>
          <a:stretch/>
        </p:blipFill>
        <p:spPr>
          <a:xfrm>
            <a:off x="304920" y="1828800"/>
            <a:ext cx="8381880" cy="35845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762120" y="563868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otonic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3657600" y="57150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otonic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6400800" y="56386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ertonic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pyright cmassengale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mosis in Plant Cel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80773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262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62699"/>
                </a:solidFill>
                <a:latin typeface="Arial"/>
              </a:rPr>
              <a:t>Description</a:t>
            </a:r>
            <a:r>
              <a:rPr b="0" lang="en-US" sz="4000" spc="-1" strike="noStrike">
                <a:solidFill>
                  <a:srgbClr val="262699"/>
                </a:solidFill>
                <a:latin typeface="Arial"/>
              </a:rPr>
              <a:t>: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vement of materials from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LOW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IGH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entr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CTIV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rocess (uses energy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UP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entration Gradien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7" descr=""/>
          <p:cNvPicPr/>
          <p:nvPr/>
        </p:nvPicPr>
        <p:blipFill>
          <a:blip r:embed="rId1"/>
          <a:stretch/>
        </p:blipFill>
        <p:spPr>
          <a:xfrm>
            <a:off x="5943600" y="1523880"/>
            <a:ext cx="2523960" cy="47246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ctive Transpor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olecular Pump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6400800" y="495288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TP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457200" y="1447920"/>
            <a:ext cx="4876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Molecular pump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are membrane proteins that use energy from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AT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to molecules across cell membranes.  (Each pump moves one type of molecule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669960" y="5989680"/>
            <a:ext cx="47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..\..\..\Downloaded Videos\Active Transport.avi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ndocytosis vs. Exocyto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Endocytosi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king large amounts of material into the cel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Exocytosi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nding large amounts of material out of the cel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pyright cmassengale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1A37-A162-48AD-8449-21FC72375E2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ndocytosi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hagocytosis &amp; Pinocytosi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 Box 32"/>
          <p:cNvSpPr/>
          <p:nvPr/>
        </p:nvSpPr>
        <p:spPr>
          <a:xfrm>
            <a:off x="380880" y="1447920"/>
            <a:ext cx="449604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Phagocytosi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membrane folds to enclose solid particle (cell eating)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Pinocytosi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The membrane folds to enclose liquid with dissolved materials (cell drinking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1" name="Picture 29" descr=""/>
          <p:cNvPicPr/>
          <p:nvPr/>
        </p:nvPicPr>
        <p:blipFill>
          <a:blip r:embed="rId1"/>
          <a:stretch/>
        </p:blipFill>
        <p:spPr>
          <a:xfrm>
            <a:off x="5562720" y="1371600"/>
            <a:ext cx="343836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0" y="837720"/>
            <a:ext cx="3581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endocytosis, the membrane pinches in to form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vesic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vesicle may later join with a lysosome so that particles can be “digested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pyright cmassengale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A367-6A4B-4F70-9654-E64C495D3A6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733920" y="762120"/>
            <a:ext cx="3438360" cy="5219640"/>
          </a:xfrm>
          <a:prstGeom prst="rect">
            <a:avLst/>
          </a:prstGeom>
          <a:ln w="0">
            <a:noFill/>
          </a:ln>
        </p:spPr>
      </p:pic>
      <p:cxnSp>
        <p:nvCxnSpPr>
          <p:cNvPr id="196" name="Straight Arrow Connector 7"/>
          <p:cNvCxnSpPr/>
          <p:nvPr/>
        </p:nvCxnSpPr>
        <p:spPr>
          <a:xfrm flipH="1" flipV="1">
            <a:off x="6705000" y="2361600"/>
            <a:ext cx="1067400" cy="1143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7" name="Straight Arrow Connector 8"/>
          <p:cNvCxnSpPr/>
          <p:nvPr/>
        </p:nvCxnSpPr>
        <p:spPr>
          <a:xfrm flipH="1">
            <a:off x="6933960" y="4038480"/>
            <a:ext cx="762480" cy="9914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8" name="TextBox 12"/>
          <p:cNvSpPr/>
          <p:nvPr/>
        </p:nvSpPr>
        <p:spPr>
          <a:xfrm>
            <a:off x="7697520" y="3581280"/>
            <a:ext cx="13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sicl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ell Membra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pyright cmassengale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493F-32F9-42F3-819D-8DB324D7E51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6" name="Picture 2" descr="http://library.thinkquest.org/C004535/media/cell_membrane.gif"/>
          <p:cNvPicPr/>
          <p:nvPr/>
        </p:nvPicPr>
        <p:blipFill>
          <a:blip r:embed="rId1"/>
          <a:stretch/>
        </p:blipFill>
        <p:spPr>
          <a:xfrm>
            <a:off x="4495680" y="1905120"/>
            <a:ext cx="4496040" cy="371448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152280" y="1295280"/>
            <a:ext cx="4267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gulates passage of materials into and out of the cel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rts of the membrane: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) lipid bilayer (2 layers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) protei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) cholestero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) carbohydrate chai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xocyto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6" descr=""/>
          <p:cNvPicPr/>
          <p:nvPr/>
        </p:nvPicPr>
        <p:blipFill>
          <a:blip r:embed="rId1"/>
          <a:stretch/>
        </p:blipFill>
        <p:spPr>
          <a:xfrm>
            <a:off x="5124600" y="1108080"/>
            <a:ext cx="4019400" cy="52578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46"/>
          <p:cNvSpPr/>
          <p:nvPr/>
        </p:nvSpPr>
        <p:spPr>
          <a:xfrm>
            <a:off x="4385160" y="1211400"/>
            <a:ext cx="270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2" name="Text Box 47"/>
          <p:cNvSpPr/>
          <p:nvPr/>
        </p:nvSpPr>
        <p:spPr>
          <a:xfrm>
            <a:off x="152280" y="1523880"/>
            <a:ext cx="4876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ducts of th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are packaged in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vesicle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t th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Golgi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nd released at th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cell membran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365040" y="4465800"/>
            <a:ext cx="420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.\..\..\Downloaded Videos\Endocytosis &amp; Exocytosis.av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 Membrane and Homeostasi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from Characteristics of Life…what 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omeosta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ll membra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lp organisms to maintain homeostasis?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ipid Bilay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-360" y="167652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de of 2 sheets of phospholipids, a type of lipid with a head and 2 ta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ydrophilic (water loving) he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ydrophobic (water fearing) tai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pyright cmassengale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974F-0E05-4F3F-A130-6361DB5F4E5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2" name="Picture 2" descr="http://chemwiki.ucdavis.edu/@api/deki/files/5716/=phospholipid.jpg"/>
          <p:cNvPicPr/>
          <p:nvPr/>
        </p:nvPicPr>
        <p:blipFill>
          <a:blip r:embed="rId1"/>
          <a:stretch/>
        </p:blipFill>
        <p:spPr>
          <a:xfrm>
            <a:off x="5257800" y="2286000"/>
            <a:ext cx="350532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y do the phospholipids arrange themselves in a bilayer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pyright cmassengale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0F3F-8D7D-4755-B547-228C71E1328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6" name="Picture 2" descr="http://d2o7bfz2il9cb7.cloudfront.net/main-qimg-59ecc5a50b981e1bc2f85632b5e94cce"/>
          <p:cNvPicPr/>
          <p:nvPr/>
        </p:nvPicPr>
        <p:blipFill>
          <a:blip r:embed="rId1"/>
          <a:stretch/>
        </p:blipFill>
        <p:spPr>
          <a:xfrm>
            <a:off x="1828800" y="1905120"/>
            <a:ext cx="518148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09480" y="228240"/>
            <a:ext cx="51055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embrane Proteins: Act as channels for large particles to enter and leave the ce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luid-Mosaic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describes the flexibility of the lipid bilayer with a mosaic of proteins and other molecu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0363-E5CE-4FB9-97FA-ADB1CCA1B2C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9" name="Picture 2" descr="http://www.biologycorner.com/resources/cell_membrane_channel1.jpg"/>
          <p:cNvPicPr/>
          <p:nvPr/>
        </p:nvPicPr>
        <p:blipFill>
          <a:blip r:embed="rId1"/>
          <a:stretch/>
        </p:blipFill>
        <p:spPr>
          <a:xfrm>
            <a:off x="6172200" y="533520"/>
            <a:ext cx="2571840" cy="2400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http://library.thinkquest.org/C004535/media/cell_membrane.gif"/>
          <p:cNvPicPr/>
          <p:nvPr/>
        </p:nvPicPr>
        <p:blipFill>
          <a:blip r:embed="rId2"/>
          <a:stretch/>
        </p:blipFill>
        <p:spPr>
          <a:xfrm>
            <a:off x="5334120" y="3276720"/>
            <a:ext cx="3476520" cy="2647800"/>
          </a:xfrm>
          <a:prstGeom prst="rect">
            <a:avLst/>
          </a:prstGeom>
          <a:ln w="0">
            <a:noFill/>
          </a:ln>
        </p:spPr>
      </p:pic>
      <p:sp>
        <p:nvSpPr>
          <p:cNvPr id="71" name="Oval 9"/>
          <p:cNvSpPr/>
          <p:nvPr/>
        </p:nvSpPr>
        <p:spPr>
          <a:xfrm>
            <a:off x="5715000" y="4191120"/>
            <a:ext cx="914400" cy="1143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Oval 10"/>
          <p:cNvSpPr/>
          <p:nvPr/>
        </p:nvSpPr>
        <p:spPr>
          <a:xfrm>
            <a:off x="6858000" y="1143000"/>
            <a:ext cx="1143000" cy="17524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Straight Connector 12"/>
          <p:cNvSpPr/>
          <p:nvPr/>
        </p:nvSpPr>
        <p:spPr>
          <a:xfrm flipV="1">
            <a:off x="6172200" y="2743200"/>
            <a:ext cx="99072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4" name="Picture 4" descr="http://www.charlsiekelly.com/images/fish_mosaic_sm.jpg"/>
          <p:cNvPicPr/>
          <p:nvPr/>
        </p:nvPicPr>
        <p:blipFill>
          <a:blip r:embed="rId3"/>
          <a:stretch/>
        </p:blipFill>
        <p:spPr>
          <a:xfrm>
            <a:off x="533520" y="3581280"/>
            <a:ext cx="3276360" cy="24591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2"/>
          <p:cNvSpPr/>
          <p:nvPr/>
        </p:nvSpPr>
        <p:spPr>
          <a:xfrm>
            <a:off x="3870360" y="6066000"/>
            <a:ext cx="3825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Comic Sans MS"/>
                <a:hlinkClick r:id="rId4"/>
              </a:rPr>
              <a:t>..\..\..\Downloaded Videos\Fluid mosiac model.avi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hydrate Chai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ze parts of molecules to determine what molecules can be brought into the cel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k and Key Fit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4648320" y="3954600"/>
            <a:ext cx="407664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23888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bel the Parts of the Membrane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581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side ce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ide ce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spholipi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hydrate Cha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lester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2" descr="http://library.thinkquest.org/C004535/media/cell_membrane.gif"/>
          <p:cNvPicPr/>
          <p:nvPr/>
        </p:nvPicPr>
        <p:blipFill>
          <a:blip r:embed="rId1"/>
          <a:stretch/>
        </p:blipFill>
        <p:spPr>
          <a:xfrm>
            <a:off x="2514600" y="3276720"/>
            <a:ext cx="6477120" cy="3346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6172200" y="1295280"/>
            <a:ext cx="27432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1T23:07:55Z</dcterms:created>
  <dc:creator>Cheryl Massengale</dc:creator>
  <dc:description/>
  <dc:language>en-US</dc:language>
  <cp:lastModifiedBy>OttoliKE</cp:lastModifiedBy>
  <cp:lastPrinted>2005-11-21T16:13:08Z</cp:lastPrinted>
  <dcterms:modified xsi:type="dcterms:W3CDTF">2011-11-18T12:12:28Z</dcterms:modified>
  <cp:revision>159</cp:revision>
  <dc:subject/>
  <dc:title>Plasma Membrane</dc:title>
</cp:coreProperties>
</file>